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1BB-D91C-4903-B913-76140830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890-9742-40DE-9F4D-0E05A7EE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69E-3C84-425B-94C1-D3A2D99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F1B-9194-42CD-8E35-DFDF8F7F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D050-94E4-4C9E-96E5-B8ECCCF1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952-4CD1-4DC0-80BF-086B04C4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472-53AD-4552-8E34-DA391AA0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C1F-54A4-405B-B357-630AAC7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0FA-989C-4B60-8F78-B79FAE1C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C29-D206-4001-8BFE-97B2841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601-3D64-48F7-97D6-78BB08BC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1F5-C355-4B30-A843-1E2008F2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70A-45C0-4A79-8B94-23E3B5E61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 Sans MS"/>
              </a:rPr>
              <a:t>First Grade High Frequency Words (List 1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u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g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a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ca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di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bi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n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ha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5:34:00Z</dcterms:created>
  <dc:creator>Jennifer Dalton</dc:creator>
  <dc:description/>
  <dc:language>en-US</dc:language>
  <cp:lastModifiedBy>Jennifer Dalton</cp:lastModifiedBy>
  <dcterms:modified xsi:type="dcterms:W3CDTF">2011-10-31T11:29:19Z</dcterms:modified>
  <cp:revision>2</cp:revision>
  <dc:subject/>
  <dc:title>First Grade High Frequency Words (List 1)</dc:title>
</cp:coreProperties>
</file>